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9B8-9CB2-47CA-9988-B1CF8731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2FE-7344-4CA7-8D67-82DF5379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331-3C44-4F0E-A389-ABA5EA84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3D11-F6E0-44B0-961C-A51A8AAC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B25-714C-4EC9-A23D-AC77B51A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4C8-A19D-4866-95FA-232FA494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9374-8E2C-44A3-9F1E-FC1A57AF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895-F1F5-46BE-81A0-37C10619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1773-C9B3-4266-9C3D-A3504D6B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334-DAA2-452D-8AE7-97B11CB9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444-8D16-4C99-9191-64BA6BDC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31CD-1BE6-4C13-B313-BB0F74ED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B784-674E-479E-930B-3AF9E0866E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utin.viperson.ru/data/200812/putin.vv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Внешняя политика РФ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вая Концепция.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20" y="2214720"/>
            <a:ext cx="81439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ить содержание и особенности этапов формирования внешнеполитической доктр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ить причины принятия новой Концеп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характеризовать принципы и установки современной Концеп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чувство уважения к своей стра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вая редакция Концепции внешней политики РФ утверждена в июне 2000 года Президентом РФ В.В.Пути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http://putin.viperson.ru/data/200812/putin.v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428840"/>
            <a:ext cx="46432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идент Р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ешнеполитические полномоч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ставляет РФ в международных отношения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яет основные направления внешней поли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уществляет руководство внешней политикой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ет переговоры и подписывает международные договоры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Конституция РФ, статья 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Documents and Settings\я\Мои документы\КенджаеваЛП\Открытый урок 2012\konstitucia0007.jpg"/>
          <p:cNvPicPr/>
          <p:nvPr/>
        </p:nvPicPr>
        <p:blipFill>
          <a:blip r:embed="rId1"/>
          <a:stretch/>
        </p:blipFill>
        <p:spPr>
          <a:xfrm>
            <a:off x="4929120" y="1643040"/>
            <a:ext cx="40719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аллельно существуют две сферы внешнеполитических интересов Росс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599840"/>
            <a:ext cx="285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льнее зарубеж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ША и ведущие страны Запа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ижнее зарубеж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траны СН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C:\Documents and Settings\я\Мои документы\КенджаеваЛП\Открытый урок 2012\World-pol.jpg"/>
          <p:cNvPicPr/>
          <p:nvPr/>
        </p:nvPicPr>
        <p:blipFill>
          <a:blip r:embed="rId1"/>
          <a:stretch/>
        </p:blipFill>
        <p:spPr>
          <a:xfrm>
            <a:off x="3000240" y="1571760"/>
            <a:ext cx="61437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льнее зарубежье и страны СН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итика России по отношению к странам дальнего зарубежья определялась несколькими фактор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яжелым социально-политическим положением в стр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лением построить модель демократического общества по американскому и западноевропейскому образц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ность правительства США и крупнейших европейских стран оказать поддержку демократическому правительст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втором этапе – стремление восстановить утраченные после радикальных демократических преобразований и распада СССР внешнеполитические позиции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авным направлением сотрудничества России со странами СНГ стало заключение двусторонних согла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ираясь на текст учебника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§ 75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заполните таблицу: «Основные направления внешней политики России в современных условиях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00040" y="2071800"/>
          <a:ext cx="8086680" cy="4214880"/>
        </p:xfrm>
        <a:graphic>
          <a:graphicData uri="http://schemas.openxmlformats.org/drawingml/2006/table">
            <a:tbl>
              <a:tblPr/>
              <a:tblGrid>
                <a:gridCol w="2695680"/>
                <a:gridCol w="2695320"/>
                <a:gridCol w="2695680"/>
              </a:tblGrid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правления внешнеполитическ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кретные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ультат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ные понят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2884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Концепция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– понятие, соображения, выводы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Доктрина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– научная или философская теория, система, руководящий теоретический или политический принцип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Постиндустриальное общество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– согласно взглядам многих социологов и историков – новая стадия общественного развития, где ведущую роль приобретают сфера услуг, наука и образование, корпорации уступают главное место университетам, а бизнесмены – ученым и специалистам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Геополитическое положение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– особенности пространственно-географического положения государства (или блока государств) в его воздействии на локальные и глобальные международные процесс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Интеграция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– сближение государств, имеющих общие цели и принципы экономической, социальной политики, политические идеалы, на основе углубления разделения труда, формирования единых пространст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лобальные проблемы современ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840" y="1600200"/>
            <a:ext cx="39290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гроза новой мировой вой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ологический кризис и его послед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ономический разрыв между развитыми и развивающимися стран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мографическая ситуация в ми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блема здравоохра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дународный террор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 организованной преступ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коголизм и нарком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Documents and Settings\я\Мои документы\КенджаеваЛП\Открытый урок 2012\глобус2.jpg"/>
          <p:cNvPicPr/>
          <p:nvPr/>
        </p:nvPicPr>
        <p:blipFill>
          <a:blip r:embed="rId1"/>
          <a:stretch/>
        </p:blipFill>
        <p:spPr>
          <a:xfrm>
            <a:off x="4357800" y="1643040"/>
            <a:ext cx="45720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я\Мои документы\КенджаеваЛП\Открытый урок 2012\карта росси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цесс формирования внешнеполитической доктр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14680"/>
            <a:ext cx="82296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этап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«прозападного» крена: декабрь 1991 – середина 1990-х. Задача: установление «союзнических» отношений с Запа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этап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учет национальных интересов: середина 1990-х – июнь 2000. Задача: корректировка стратегического курса страны на мировой арене, последовательная защита национальных интере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циональные интересы России в их внешнеполитическом преломле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еспечение надежной безопасности стра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здание благоприятных условий для устойчивого экономического рос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вышение жизненного уровня насел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крепление единства и целостности стра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крепление основ конституционного поряд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солидация обще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щита прав граждан и соотечественников за рубеж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балансированност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ешней поли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рять в равной мере сотрудничество со странами Запада и Востока, Севера и 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стаивать последовательно национальные интере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одить дальнейшую интеграцию России в сообщество демократических государств, международные экономические, политические и гуманитарные струк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Биполярная» модель международных отношений в период «холодной» вой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международных отношений в годы «холодной» войны определялось отношениями между сверхдержавами. Их соперничество носило военно-политический характер. Это предопределяло цикличность послевоенной мировой политики. «Холодная» война была чередой обострений и смягчения международной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февраля 1992 года состоялось подписание Декларации об окончании «холодной» вой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азовые принципы и установк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нцепции внешней политики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многополярной системы международных отнош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цип международной безопасности – взаимный учет национальных интересов: центральное место в его реализации принадлежит О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иболее представительным и авторитетным международным органом являются ООН и ее специализированные учреждения: Генеральная Ассамблея ООН, Совет Безопасности ООН, Экономический и социальный Совет О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C:\Documents and Settings\я\Мои документы\КенджаеваЛП\Открытый урок 2012\250px-The_United_Nations_Building.jpg"/>
          <p:cNvPicPr/>
          <p:nvPr/>
        </p:nvPicPr>
        <p:blipFill>
          <a:blip r:embed="rId1"/>
          <a:stretch/>
        </p:blipFill>
        <p:spPr>
          <a:xfrm>
            <a:off x="4643280" y="1643040"/>
            <a:ext cx="39294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8:47:18Z</dcterms:created>
  <dc:creator>я</dc:creator>
  <dc:description/>
  <dc:language>en-US</dc:language>
  <cp:lastModifiedBy>Lenovo</cp:lastModifiedBy>
  <dcterms:modified xsi:type="dcterms:W3CDTF">2016-04-24T20:51:50Z</dcterms:modified>
  <cp:revision>78</cp:revision>
  <dc:subject/>
  <dc:title>Слайд 1</dc:title>
</cp:coreProperties>
</file>